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83A-CEE9-4EF2-911E-64ADD2B3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503-F40D-4135-AF0B-F9120D72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BF1-62B3-4BD4-A656-CA77D55B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0A8-F09E-44ED-878C-39C9CAC1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55F-4A5B-4C3D-94C0-871BDF3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148-8B89-4B3E-9B42-E248455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B0F-D749-478A-8000-175EE58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02A-F3B9-42FD-A783-883EEFE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AA2-ECE5-4292-91E3-99B0CBE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2CA-C689-4DCC-8830-717B4CBF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790-5341-4EEB-8D2A-C70DB35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631-A118-453D-8D48-AC77C9F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5233-82F5-47F5-AC54-B0D8495C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wikispaces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69640" y="99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m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7280" y="1784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Solve  3 + x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297180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Evaluate 2x +8   for x= 3, 6, and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9080" y="41148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Solve:  4 – (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9240" y="51055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 Solve:  -7 – (-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44120" y="18288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5480" y="29718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4, 20,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8792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600" y="5029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37160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CC MATH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Show me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your worksheet and “the work” before you scan for 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est are to be done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BY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fter you scan a test, 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Tell ME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, so you are 100% sure that I hear, your test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Before continuing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, correct ALL the items you missed on the test.  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Al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expect about 35 objectives this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a using ACC MATH differently this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Objectives are tied loosely 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am not teaching with ACC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lease understand, lots of scans at less than 85% is a very very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AD THING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990720"/>
            <a:ext cx="850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Quiz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his is not an all period test. About 25 minutes,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If you are allowed more time, I will collect your paper and have Ms Niermeyer finish the quiz with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o your ow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You may use calculator and your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If I see your eyes even looking toward another person, or you talk, be prepared for the wo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re there any question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2560" y="9460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Block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905120"/>
            <a:ext cx="10666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1981080"/>
            <a:ext cx="10666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981080"/>
            <a:ext cx="106668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2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Alphabet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77280" y="946080"/>
            <a:ext cx="38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3d Block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81080"/>
            <a:ext cx="2057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057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8000" y="1981080"/>
            <a:ext cx="193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Alphabet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04920" y="990720"/>
            <a:ext cx="850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IKI and EN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Again, my ENGRADE COD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engrade-tcjcinnb-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WIKI info provided to parents.  Here is my 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You need to be on ENGRADE so parents can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ign your agenda TOMORROW</a:t>
            </a: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/>
          </p:cNvPr>
          <p:cNvSpPr/>
          <p:nvPr/>
        </p:nvSpPr>
        <p:spPr>
          <a:xfrm>
            <a:off x="4267080" y="4038480"/>
            <a:ext cx="53352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873520" y="94608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ACC Math is EXTREMEL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Your ACC Math effort shows both your knowledge and your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I expect LOTS of Objectives to be mastered per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The goal is NOT to scan a lot, but to get all of your scans CORRECT!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20" y="5261040"/>
            <a:ext cx="747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Are there any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00" y="1752480"/>
            <a:ext cx="875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 have a bin in the back where we keep fol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ry to keep it ne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tore folders by team, in the green hang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f I do not have enough, now, store with someone on your tea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73520" y="94608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002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CAN A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85%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n’t just go through the motions and scan.  Scan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 do not want to see Practices, Tests, or Exercises at less than 8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HOW WORK on your paper, not just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The little green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371600"/>
            <a:ext cx="86104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BEFORE YOU ASK ME A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heck your notes, check your book (look in table of contents), check your team…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kamillionB4ME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VER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VER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EVER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have more than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 line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to ask me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admin</cp:lastModifiedBy>
  <cp:lastPrinted>2002-10-02T17:02:09Z</cp:lastPrinted>
  <dcterms:modified xsi:type="dcterms:W3CDTF">2010-07-22T13:45:56Z</dcterms:modified>
  <cp:revision>83</cp:revision>
  <dc:subject/>
  <dc:title>No Slide Title</dc:title>
</cp:coreProperties>
</file>